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image27.wmf" ContentType="image/x-wmf"/>
  <Override PartName="/ppt/media/image24.gif" ContentType="image/gif"/>
  <Override PartName="/ppt/media/image7.wmf" ContentType="image/x-wmf"/>
  <Override PartName="/ppt/media/image5.gif" ContentType="image/gif"/>
  <Override PartName="/ppt/media/image31.wmf" ContentType="image/x-wmf"/>
  <Override PartName="/ppt/media/image19.jpeg" ContentType="image/jpeg"/>
  <Override PartName="/ppt/media/image6.png" ContentType="image/png"/>
  <Override PartName="/ppt/media/image20.jpeg" ContentType="image/jpeg"/>
  <Override PartName="/ppt/media/image26.gif" ContentType="image/gif"/>
  <Override PartName="/ppt/media/image14.wmf" ContentType="image/x-wmf"/>
  <Override PartName="/ppt/media/image10.wmf" ContentType="image/x-wmf"/>
  <Override PartName="/ppt/media/image8.gif" ContentType="image/gif"/>
  <Override PartName="/ppt/media/image13.gif" ContentType="image/gif"/>
  <Override PartName="/ppt/media/image9.gif" ContentType="image/gif"/>
  <Override PartName="/ppt/media/image11.gif" ContentType="image/gif"/>
  <Override PartName="/ppt/media/image12.gif" ContentType="image/gif"/>
  <Override PartName="/ppt/media/image30.wmf" ContentType="image/x-wmf"/>
  <Override PartName="/ppt/media/image4.gif" ContentType="image/gif"/>
  <Override PartName="/ppt/media/image15.wmf" ContentType="image/x-wmf"/>
  <Override PartName="/ppt/media/image22.jpeg" ContentType="image/jpeg"/>
  <Override PartName="/ppt/media/image3.wmf" ContentType="image/x-wmf"/>
  <Override PartName="/ppt/media/image25.wmf" ContentType="image/x-wmf"/>
  <Override PartName="/ppt/media/image16.gif" ContentType="image/gif"/>
  <Override PartName="/ppt/media/image17.wmf" ContentType="image/x-wmf"/>
  <Override PartName="/ppt/media/image18.wmf" ContentType="image/x-wmf"/>
  <Override PartName="/ppt/media/image29.wmf" ContentType="image/x-wmf"/>
  <Override PartName="/ppt/media/image1.png" ContentType="image/png"/>
  <Override PartName="/ppt/media/image32.wmf" ContentType="image/x-wmf"/>
  <Override PartName="/ppt/media/image2.wmf" ContentType="image/x-wmf"/>
  <Override PartName="/ppt/media/image21.jpeg" ContentType="image/jpeg"/>
  <Override PartName="/ppt/media/image23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28A6-749E-4472-AE39-90BF9FCA6A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E9FF-FECF-4A94-B89B-3903B9C0DEC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9327-AEC8-41D1-9387-E4544745E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7C6E-A93E-4EE8-A227-C88B39060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60C4-E067-43CC-A02B-1EB4EF33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518D-846A-4635-9ACE-D4AC34C60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B12E6-EDD8-4F90-B4C0-1FA8D1950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7A6C1-06FB-48AF-9909-93DB32F0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FA109-90A5-49AC-9782-7361F127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12294-B464-4674-8D07-9433CC840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780B7-FBDA-4CAF-87EE-45B7CAC2A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164A-FC49-4B5F-BB8C-B01111B29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71C5-C37C-4C3E-B39C-93BB185C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FC6-FAC3-4049-A08A-4586AE07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8BC9-30F3-426B-B993-E319CC49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E6C3-7AB5-4B94-80AF-FD112F8A8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163A1-405A-43D1-AB82-6C1636153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064AD-2F64-48C1-9A66-7A0A4E937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CBF0-148D-4EBD-8B3E-821DFC621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984E-574E-4D3F-B2D9-4080C7E5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8BBA-2FD4-4A7F-8C3D-D1368E676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2DA4-E00D-4494-AE7D-B206592F3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89FB-35BA-43CE-B3A4-A630F9152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0153-5CF4-49A6-A3C2-1768E39E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63FD-DA43-4723-9DDF-2E9227DE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6B9D-81D3-48C3-A3AD-8E9A66BE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2A69F-F88F-4204-806B-5430A7500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6A4C7-8E23-4645-8C7E-F263FA781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oleObject" Target="../embeddings/oleObject2.bin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ome.hccnet.nl/jac.mekern/Airbrush/Sitting%2520Bull.jpg&amp;imgrefurl=http://home.hccnet.nl/jac.mekern/Airbrush%2520-%2520Sitting%2520Bull.htm&amp;h=860&amp;w=689&amp;sz=670&amp;hl=en&amp;start=2&amp;tbnid=c-cPK7g6kIJXdM:&amp;tbnh=145&amp;tbnw=116&amp;prev=/images%3Fq%3Dsitting%2Bbull%26gbv%3D2%26svnum%3D10%26hl%3Den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com/imgres?imgurl=http://www.wilsonsalmanac.com/images2/joseph_chief.jpg&amp;imgrefurl=http://www.wilsonsalmanac.com/book/oct5.html&amp;h=549&amp;w=400&amp;sz=41&amp;hl=en&amp;start=1&amp;tbnid=mb2xtHGH7QW3iM:&amp;tbnh=133&amp;tbnw=97&amp;prev=/images%3Fq%3Dchief%2Bjoseph%26gbv%3D2%26svnum%3D10%26hl%3Den" TargetMode="External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</a:rPr>
              <a:t>The Wild Wild West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3" name="Object 5"/>
          <p:cNvGraphicFramePr/>
          <p:nvPr/>
        </p:nvGraphicFramePr>
        <p:xfrm>
          <a:off x="4343400" y="3657600"/>
          <a:ext cx="60948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3657600"/>
                    <a:ext cx="6094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5" name="Picture 8" descr="bl00515_"/>
          <p:cNvPicPr/>
          <p:nvPr/>
        </p:nvPicPr>
        <p:blipFill>
          <a:blip r:embed="rId3"/>
          <a:stretch/>
        </p:blipFill>
        <p:spPr>
          <a:xfrm>
            <a:off x="228600" y="2514600"/>
            <a:ext cx="8610480" cy="4210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9" descr="j0356794"/>
          <p:cNvPicPr/>
          <p:nvPr/>
        </p:nvPicPr>
        <p:blipFill>
          <a:blip r:embed="rId4"/>
          <a:stretch/>
        </p:blipFill>
        <p:spPr>
          <a:xfrm>
            <a:off x="6781680" y="46483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0" descr="j0356793"/>
          <p:cNvPicPr/>
          <p:nvPr/>
        </p:nvPicPr>
        <p:blipFill>
          <a:blip r:embed="rId5"/>
          <a:stretch/>
        </p:blipFill>
        <p:spPr>
          <a:xfrm>
            <a:off x="838080" y="4724280"/>
            <a:ext cx="1943280" cy="1943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Object 12"/>
          <p:cNvGraphicFramePr/>
          <p:nvPr/>
        </p:nvGraphicFramePr>
        <p:xfrm>
          <a:off x="6095880" y="1752480"/>
          <a:ext cx="304920" cy="304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9" name="Object 1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95880" y="17524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Verdana"/>
              </a:rPr>
              <a:t>Native American Leaders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1532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itting Bull &amp; Crazy Horse – Sioux chiefs who tried to push settlers off their lan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Chief Joseph – Nez Perce chief said, “It makes my heart sick when I remember all the good words and all the broken promises.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Geronimo – an Apache leader who resisted to being put on a reservatio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No matter how hard they tried, unfortunately the Native Americans ended up on reservations anyway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7" descr="Sitting%2520Bul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5334120"/>
            <a:ext cx="1036800" cy="13716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joseph_chie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24280" y="5334120"/>
            <a:ext cx="1000080" cy="1371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" descr="Chef%2520CrazyHorse"/>
          <p:cNvPicPr/>
          <p:nvPr/>
        </p:nvPicPr>
        <p:blipFill>
          <a:blip r:embed="rId5"/>
          <a:stretch/>
        </p:blipFill>
        <p:spPr>
          <a:xfrm>
            <a:off x="2743200" y="5334120"/>
            <a:ext cx="1066680" cy="1371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3" descr="geronimo"/>
          <p:cNvPicPr/>
          <p:nvPr/>
        </p:nvPicPr>
        <p:blipFill>
          <a:blip r:embed="rId6"/>
          <a:stretch/>
        </p:blipFill>
        <p:spPr>
          <a:xfrm>
            <a:off x="6629400" y="5334120"/>
            <a:ext cx="984240" cy="137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awes Ac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were people who actually believed what we had done to the Native Americans was wro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idea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ssimilation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was discussed as a way for Native Americans to “fit in” to white cultu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Dawes A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encouraged Native Americans to give up their customs to become farmers on reserva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all Native Americans wanted to be farm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f they did want to be farmers, they weren’t given the tools or technology the white man had, so it was very difficul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5" descr="j0283618"/>
          <p:cNvPicPr/>
          <p:nvPr/>
        </p:nvPicPr>
        <p:blipFill>
          <a:blip r:embed="rId1"/>
          <a:stretch/>
        </p:blipFill>
        <p:spPr>
          <a:xfrm>
            <a:off x="7696080" y="304920"/>
            <a:ext cx="1027080" cy="107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omen in the Wes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ife was challenging for women in the W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ife was lonely due to few neighbors &amp; women did not go into town with the m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omen were doctors, nurses, cooks, mothers, teachers, &amp; responsible for the homestea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Homestea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– a piece of land &amp; the house on i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Western states acknowledged the importance of wome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Wyoming was the first state to fight for women’s right to vo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oon after Colorado, Utah, and Idaho stood up for women to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13" descr="j0356713"/>
          <p:cNvPicPr/>
          <p:nvPr/>
        </p:nvPicPr>
        <p:blipFill>
          <a:blip r:embed="rId1"/>
          <a:stretch/>
        </p:blipFill>
        <p:spPr>
          <a:xfrm>
            <a:off x="152280" y="5564160"/>
            <a:ext cx="1219320" cy="10368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j0356794"/>
          <p:cNvPicPr/>
          <p:nvPr/>
        </p:nvPicPr>
        <p:blipFill>
          <a:blip r:embed="rId2"/>
          <a:stretch/>
        </p:blipFill>
        <p:spPr>
          <a:xfrm>
            <a:off x="7696080" y="457200"/>
            <a:ext cx="1028880" cy="102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Western Cit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ities grew for a few reas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Gold &amp; precious mineral strik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“refueling” or supply renewal poi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ailroad stop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any cities did not have formal laws or governme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ities &amp; towns were roug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ome people took the law into their own hands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Vigilantes made their own ru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Picture 7" descr="bl00663_"/>
          <p:cNvPicPr/>
          <p:nvPr/>
        </p:nvPicPr>
        <p:blipFill>
          <a:blip r:embed="rId1"/>
          <a:stretch/>
        </p:blipFill>
        <p:spPr>
          <a:xfrm>
            <a:off x="6070680" y="5181480"/>
            <a:ext cx="3073320" cy="16765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8" descr="j0172621"/>
          <p:cNvPicPr/>
          <p:nvPr/>
        </p:nvPicPr>
        <p:blipFill>
          <a:blip r:embed="rId2"/>
          <a:stretch/>
        </p:blipFill>
        <p:spPr>
          <a:xfrm>
            <a:off x="7238880" y="457200"/>
            <a:ext cx="1447920" cy="112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Don’t Forget U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were many groups of people who helped make the West what it is toda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queros –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cowhands from Mexic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frican Americans – cattle ranchers &amp; western army soldi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hinese immigrants – builders of the railroad in the W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ative Americans – promises broken &amp; forced to leave their hom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ioneers – all those crazy, um, I mean brave people who took a ch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Picture 5" descr="j0424830"/>
          <p:cNvPicPr/>
          <p:nvPr/>
        </p:nvPicPr>
        <p:blipFill>
          <a:blip r:embed="rId1"/>
          <a:stretch/>
        </p:blipFill>
        <p:spPr>
          <a:xfrm>
            <a:off x="7086600" y="5226120"/>
            <a:ext cx="1841400" cy="163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losing the Fronti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enced in fields replaced open plai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n Oklahoma thousands of people rushed at the sound of a gun shot to claim land for themselves – 2 million acres were sol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frontier meant opportunity for man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ould make something of yourself if you moved Wes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You could start a new lif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 good day - was a day of good, hard work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5" descr="j0433136"/>
          <p:cNvPicPr/>
          <p:nvPr/>
        </p:nvPicPr>
        <p:blipFill>
          <a:blip r:embed="rId1"/>
          <a:stretch/>
        </p:blipFill>
        <p:spPr>
          <a:xfrm rot="20206200">
            <a:off x="7005600" y="5318280"/>
            <a:ext cx="227808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How the West has influenced us today…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Cowboy boots &amp; ha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lue Jean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eather goods (bags, coats, vests, suspenders, etc.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ome remedies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(Hiccups – drink water while standing on your head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addl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tories (Buffalo Bill, Calamity Jane, Jesse James)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vies, books, poems, song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ailroad growth &amp; trav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Food - apples, potatoes, salt water taffy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ctivities – rodeos, card games, bull rid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atterned cloth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Treasure hunt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Pony Express – the 1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post offi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Bandan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Picture 4" descr="hh00071_"/>
          <p:cNvPicPr/>
          <p:nvPr/>
        </p:nvPicPr>
        <p:blipFill>
          <a:blip r:embed="rId1"/>
          <a:stretch/>
        </p:blipFill>
        <p:spPr>
          <a:xfrm>
            <a:off x="6553080" y="4495680"/>
            <a:ext cx="2308320" cy="2089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hh00802_"/>
          <p:cNvPicPr/>
          <p:nvPr/>
        </p:nvPicPr>
        <p:blipFill>
          <a:blip r:embed="rId2"/>
          <a:stretch/>
        </p:blipFill>
        <p:spPr>
          <a:xfrm>
            <a:off x="7467480" y="228600"/>
            <a:ext cx="14511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Slang of the “Wild West”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ig Bug - - an important pers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offee boiler - - a lazy perso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Dude - - a person from the Eas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andango - - a big part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etch - - Bring or giv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ork over - - to pa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Fuss - - disturbanc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et a wiggle on - - hurry up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Grand - - excellent beautiful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obble your lip - - be quie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Howdy - - hell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In apple pie order - - in tip top shape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Jig is up - - it is over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ass the buck - - to avoid responsibilit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Pull in your horns - - Back off!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kedaddle  - - RUN!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Stumped - - confused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Picture 4" descr="bl00663_"/>
          <p:cNvPicPr/>
          <p:nvPr/>
        </p:nvPicPr>
        <p:blipFill>
          <a:blip r:embed="rId1"/>
          <a:stretch/>
        </p:blipFill>
        <p:spPr>
          <a:xfrm>
            <a:off x="4724280" y="3809880"/>
            <a:ext cx="4125960" cy="287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j0356793"/>
          <p:cNvPicPr/>
          <p:nvPr/>
        </p:nvPicPr>
        <p:blipFill>
          <a:blip r:embed="rId2"/>
          <a:stretch/>
        </p:blipFill>
        <p:spPr>
          <a:xfrm>
            <a:off x="6095880" y="1676520"/>
            <a:ext cx="194328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Sourc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8120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arcia, Jesus, et.al. (2003).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Creating America.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hapter 19 Sections 1-4.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cDougal Littell. Evanston, Illinoi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twater, G.M. “Western Slangs &amp; Phrases.” A Writer’s Guide to the Old West. October 26, 2006. April 21, 2007. http://freepages.genealogy.rootsweb.com/~poindexterfamily/OldWestSlang.htm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Picture 4" descr="j0280405"/>
          <p:cNvPicPr/>
          <p:nvPr/>
        </p:nvPicPr>
        <p:blipFill>
          <a:blip r:embed="rId1"/>
          <a:stretch/>
        </p:blipFill>
        <p:spPr>
          <a:xfrm>
            <a:off x="6934320" y="4854600"/>
            <a:ext cx="2047680" cy="2003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4" name="Object 5"/>
          <p:cNvGraphicFramePr/>
          <p:nvPr/>
        </p:nvGraphicFramePr>
        <p:xfrm>
          <a:off x="3657600" y="990720"/>
          <a:ext cx="304920" cy="30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57600" y="990720"/>
                    <a:ext cx="304920" cy="30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6" name="Picture 7" descr="pe00521_"/>
          <p:cNvPicPr/>
          <p:nvPr/>
        </p:nvPicPr>
        <p:blipFill>
          <a:blip r:embed="rId4"/>
          <a:stretch/>
        </p:blipFill>
        <p:spPr>
          <a:xfrm>
            <a:off x="838080" y="5029200"/>
            <a:ext cx="1744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Geography of the Wes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owns in Missouri were thought to be the end before the fronti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Frontier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unsettled land in western United Stat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West is considered states beyond the Rocky Mountains like Oregon, California, et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re are deserts, mountains, rivers, lakes, basins, plateaus, mesas, &amp; even a volcano in the W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Picture 12" descr="CG1A0"/>
          <p:cNvPicPr/>
          <p:nvPr/>
        </p:nvPicPr>
        <p:blipFill>
          <a:blip r:embed="rId1"/>
          <a:stretch/>
        </p:blipFill>
        <p:spPr>
          <a:xfrm>
            <a:off x="7086600" y="4800600"/>
            <a:ext cx="1836720" cy="1905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" descr="j0283593"/>
          <p:cNvPicPr/>
          <p:nvPr/>
        </p:nvPicPr>
        <p:blipFill>
          <a:blip r:embed="rId2"/>
          <a:stretch/>
        </p:blipFill>
        <p:spPr>
          <a:xfrm>
            <a:off x="7543800" y="2743200"/>
            <a:ext cx="1143000" cy="101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Influence of Railroad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ilroads helped settle the W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ins carried resources like: minerals, timber, crops, &amp; cattle to the East coa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ins also carried miners, ranchers, &amp; farmers to settle the We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rains &amp; Native Americans – not friends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rain routes often went through the routes of the animals they hunted or even through their own land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6" name="Picture 5" descr="j0296919"/>
          <p:cNvPicPr/>
          <p:nvPr/>
        </p:nvPicPr>
        <p:blipFill>
          <a:blip r:embed="rId1"/>
          <a:stretch/>
        </p:blipFill>
        <p:spPr>
          <a:xfrm>
            <a:off x="6781680" y="5257800"/>
            <a:ext cx="213372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Go West, Why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342720" indent="-3427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efore the Civil War, the South did not want the land in the West settl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2760" indent="-3182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y feared more non-slave territo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27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2720" indent="-3427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vernment decided it was time to settle the west by offering free l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2720" indent="-3427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omestead Ac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– You can have 160 acres for free if you live on it for 5 years and improve 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2720" indent="-3427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y African Americans settled in Kansas, Missouri, Indiana, &amp; Illinois after the Civil W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27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342720" indent="-34272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Railroads were grow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62760" indent="-318240">
              <a:lnSpc>
                <a:spcPct val="80000"/>
              </a:lnSpc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t’s easier to head wes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Picture 5" descr="j0233651"/>
          <p:cNvPicPr/>
          <p:nvPr/>
        </p:nvPicPr>
        <p:blipFill>
          <a:blip r:embed="rId1"/>
          <a:stretch/>
        </p:blipFill>
        <p:spPr>
          <a:xfrm>
            <a:off x="7543800" y="5410080"/>
            <a:ext cx="1425600" cy="1447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j0236360"/>
          <p:cNvPicPr/>
          <p:nvPr/>
        </p:nvPicPr>
        <p:blipFill>
          <a:blip r:embed="rId2"/>
          <a:stretch/>
        </p:blipFill>
        <p:spPr>
          <a:xfrm rot="10800000">
            <a:off x="0" y="6324120"/>
            <a:ext cx="760104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hallenges in the Wes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Many challenges faced the people who moved Wes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ere were no trees, so houses were built from sod (thick grass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ad to dig wells for wate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Blizzards, hailstorms, tornados, fires, drough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Insects ate crop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ew inventions helped some of the challeng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Steel plow – helped farming &amp; built sod house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Windmills – helped pump water from well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Barbed wire – kept cattle in or out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-38808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Reapers &amp; threshers – helped harvest crop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80784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6" descr="AG00436_"/>
          <p:cNvPicPr/>
          <p:nvPr/>
        </p:nvPicPr>
        <p:blipFill>
          <a:blip r:embed="rId1"/>
          <a:stretch/>
        </p:blipFill>
        <p:spPr>
          <a:xfrm>
            <a:off x="-228600" y="5562720"/>
            <a:ext cx="1676520" cy="1079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j0354596"/>
          <p:cNvPicPr/>
          <p:nvPr/>
        </p:nvPicPr>
        <p:blipFill>
          <a:blip r:embed="rId2"/>
          <a:stretch/>
        </p:blipFill>
        <p:spPr>
          <a:xfrm>
            <a:off x="7893000" y="5257800"/>
            <a:ext cx="12510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Mining in the Wes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old has struck again in Nevada, Colorado, &amp; South Dako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eople raced to go to these are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omtowns appeared due to gold strik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oomtown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a town that has a sudden burst of population &amp; economic growt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hen the gold &amp; other mined resources ran out people moved to the next tow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oomtowns became ghost tow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6" descr="bl00514_"/>
          <p:cNvPicPr/>
          <p:nvPr/>
        </p:nvPicPr>
        <p:blipFill>
          <a:blip r:embed="rId1"/>
          <a:stretch/>
        </p:blipFill>
        <p:spPr>
          <a:xfrm>
            <a:off x="6629400" y="5423040"/>
            <a:ext cx="2373480" cy="1249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pe03704_"/>
          <p:cNvPicPr/>
          <p:nvPr/>
        </p:nvPicPr>
        <p:blipFill>
          <a:blip r:embed="rId2"/>
          <a:stretch/>
        </p:blipFill>
        <p:spPr>
          <a:xfrm>
            <a:off x="7086600" y="0"/>
            <a:ext cx="1309680" cy="143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Cattle Driv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34876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-44604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ttle ranching made big money for 20 yea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anchers hired cowhands to drive cattle from Texas to Kans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Vaquero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1</a:t>
            </a:r>
            <a:r>
              <a:rPr b="0" lang="en-US" sz="2600" spc="-1" strike="noStrike" baseline="30000">
                <a:solidFill>
                  <a:srgbClr val="000000"/>
                </a:solidFill>
                <a:latin typeface="Verdana"/>
              </a:rPr>
              <a:t>st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cowhands came from Mexi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ttle was put on trains &amp; sent eas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attle driving was very difficult - you had to keep the cows or “the money” togethe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bstacles were: nature, thieves, &amp; Native America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5" descr="AG00445_"/>
          <p:cNvPicPr/>
          <p:nvPr/>
        </p:nvPicPr>
        <p:blipFill>
          <a:blip r:embed="rId1"/>
          <a:stretch/>
        </p:blipFill>
        <p:spPr>
          <a:xfrm>
            <a:off x="6400800" y="5257800"/>
            <a:ext cx="1523880" cy="1469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AG00445_"/>
          <p:cNvPicPr/>
          <p:nvPr/>
        </p:nvPicPr>
        <p:blipFill>
          <a:blip r:embed="rId2"/>
          <a:stretch/>
        </p:blipFill>
        <p:spPr>
          <a:xfrm>
            <a:off x="5181480" y="5388120"/>
            <a:ext cx="1524240" cy="14698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AG00445_"/>
          <p:cNvPicPr/>
          <p:nvPr/>
        </p:nvPicPr>
        <p:blipFill>
          <a:blip r:embed="rId3"/>
          <a:stretch/>
        </p:blipFill>
        <p:spPr>
          <a:xfrm>
            <a:off x="7620120" y="5388120"/>
            <a:ext cx="1523880" cy="146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Native American Lif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28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13280" indent="-4132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st Plains tribes lived in villag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he Spanish brought horses in the 1500’s to the Native Americans &amp; changed their way of lif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Horses helped travel &amp; hunting buff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ll parts of the buffalo were used: food, clothing, blankets, tools, jewelry, etc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13280" indent="-41328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w Native Americans could travel with the buff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Picture 5" descr="tr00199_"/>
          <p:cNvPicPr/>
          <p:nvPr/>
        </p:nvPicPr>
        <p:blipFill>
          <a:blip r:embed="rId1"/>
          <a:stretch/>
        </p:blipFill>
        <p:spPr>
          <a:xfrm>
            <a:off x="6858000" y="5291280"/>
            <a:ext cx="2112840" cy="156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Verdana"/>
              </a:rPr>
              <a:t>The Government L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55400" indent="-4554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Native Americans were promised no one would take their land (HA! We know bette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en the settlers kept whining they wanted more land the government broke their promi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government set up “boundaries” or “reservations” for the Native America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ome Native Americans went along with this while others resis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80560" indent="-423000">
              <a:spcBef>
                <a:spcPts val="60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nd Creek Massacre – The Cheyenne fought back &amp; the militia killed 150 tribe member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9" name="Picture 5" descr="bl00206_"/>
          <p:cNvPicPr/>
          <p:nvPr/>
        </p:nvPicPr>
        <p:blipFill>
          <a:blip r:embed="rId1"/>
          <a:stretch/>
        </p:blipFill>
        <p:spPr>
          <a:xfrm>
            <a:off x="7259760" y="5410080"/>
            <a:ext cx="1884240" cy="147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1T14:45:20Z</dcterms:created>
  <dc:creator>Jennifer Ritchason</dc:creator>
  <dc:description/>
  <dc:language>en-US</dc:language>
  <cp:lastModifiedBy>laura.arnold</cp:lastModifiedBy>
  <dcterms:modified xsi:type="dcterms:W3CDTF">2013-04-08T21:27:01Z</dcterms:modified>
  <cp:revision>5</cp:revision>
  <dc:subject/>
  <dc:title>The Wild Wild West</dc:title>
</cp:coreProperties>
</file>